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5D5-2081-4871-A058-B5DC4C4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025-BABC-4A68-B97E-E83883D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DC0A7-E299-4B76-A628-54655528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850D-FA83-48B9-8A4F-92D17C52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44C2-C066-41CA-B84F-27D72965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29F8-3D37-40C6-AF2B-FA7B327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D7727-C15D-4119-A831-BBEB434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8CCB-F126-4376-9E63-DDBD4E8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783F3-9533-4A08-B696-BFB70AD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B38C1-F69D-4C3A-9F07-A92F3326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54130-0A33-4740-A5DC-663418B9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15BB-2C70-4DCD-A433-B4B3420A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FF5-A4ED-4D1B-8823-1DECF452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62AC-CD03-4B1E-A583-AB113865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D276B-02AA-44E0-94D8-DB59943D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C440-231A-4C0E-B44F-C49C70B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F4A04-7FA8-4A6A-BE73-5DD52029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05023-6302-4007-8E63-BC81B323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F9686-A1A5-49B0-895C-ACD20CEA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F518-5053-4563-B682-F4820B3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0ABB5-A706-4500-BD74-3E722B3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62B67-7BF2-4933-BF58-2316994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6B9B4-B0B2-44F7-B531-5D61C52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E7F-654A-4319-BF84-8FACA7D8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E6E20-15D9-4F2B-913C-CF8FA78C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3AA5-1D60-45A9-874D-78B9B6C1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8D58E-206A-46E0-97E7-EE3C19B2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AE9D0-F730-4621-BF5A-E9AD1A6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65D2-D0A9-470E-8556-9977F120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E41E2-BD44-4285-824B-0A66F6A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BB958-FA26-4AD5-9E0C-9005F8E2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F8EC3-31B4-457D-B4F8-82EA376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A70B-3608-4EDA-888F-EDD0A2E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59D69-44A3-46BD-BACE-41BA7A2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CB8-960C-4A3B-97DE-3E88B22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59F2-1097-4E46-841A-85E68ED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21C9B-F0BE-41E5-BA70-DC565933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4A800-579A-43D8-B018-A85A5399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67624-D797-41B4-96AF-F6A1468F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DD9EA-BE55-4901-9CD1-C07F8138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20C05-B5ED-42D1-8689-3B27A1A6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5F9F5-E6CE-41F1-838C-E50826C1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42844-2A9C-46FE-B8CC-C0D1E14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70127-9878-4EE5-832B-886957E1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23E0D-2E9F-4D9D-8E29-85E3122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C229-6A93-4486-8196-EECBD788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57D82-0ED5-4BAB-B272-67531A0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A7719-8413-4F62-AA14-E3DDC3A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43A8D-6BB0-4775-A78B-6CBE8C8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3A4C7-B503-4667-8697-5AA434C6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56B8A-6133-4A9D-8E13-1E0B83C3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92FB2-BF62-4FE4-BD35-C1BA9A4B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41ADF-6FD8-423D-862A-1DDBCC25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F93F0-E1EC-403E-89C4-18DA738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5BA31-0924-4D98-9767-E1C42E2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7B9AC-EA08-424F-AF07-BAED547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5CD2-C0D8-4DF0-A0E9-5BA78C5F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855E3-E18E-4785-A736-710833D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4AB76-83E8-4751-8008-EB22BC5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8E9B8-D7CB-4725-B0D0-C90ABD7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82726-0C39-48CC-A8B1-29FF0AC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07E78-A9F8-41CB-8123-66804A5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9E3F8-CBE7-487C-87DC-1698D77C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DF22E-EF8A-4E2F-916D-7129A53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E1323-721D-4F10-BF3F-A8DD9587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4A110-BB47-4AB8-A914-3045A03F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30C1-A192-44A2-B159-DD013F3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C30-D552-405C-A276-9BAB3A3A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A0B30-A487-4EDF-A4A5-17B8366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D5DC2-1C8C-4F43-89F5-551DFFE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BB85-CD8A-4CA7-AF5A-E5156912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64CE7-EC2B-4AE1-B4FE-FC5B12C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7BBE5-A7A4-4E9C-944C-F9CB479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BCC99-EFE6-4FD1-808F-46428F9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6F06F-7261-4DB0-8338-EAC46227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B6DC2-B2BB-49A2-B9B3-AF94F625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7BE8F-34D4-4244-93F3-ADD3810B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EDD99-BC1E-4DA6-9871-86981888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EB0D-21FB-4B10-8C17-C042D5C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C90E5-CDF2-4DBE-AC0A-8EBE08FC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BA35-1719-48B3-8A16-F413CC1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15292-2F9A-4539-99BA-6AF4C15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568EF-3341-49B6-B873-3F576CA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F8806-4987-446B-AB99-E50440F1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4F5AF-5DF7-4BED-8FF9-F2D80CB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C3A6C-CAFA-4EE6-BA2B-0623DE2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438A7-0E9B-4F54-B002-113C664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10682-D114-4292-968D-9C629E6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0676A-CCB9-4B1B-BF20-289EBE53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F531-FA71-44DD-B610-9017FE7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F17DC-2DB1-43F8-B6F6-374D8592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667C9-F8B5-4EBF-AF9F-FB462E2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2D7D9-3ACD-4B99-A106-B986002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00974-B41C-499B-AA16-D3FA858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5BDE2-316B-46C6-A454-313B56D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37A6A-E913-4646-81FE-46C2A01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197CF-4913-4C4A-B966-844DB03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7B252-BF90-46CA-B49C-3517B4B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83F7E-C8D3-4BB8-AFA5-1BB3E05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C5273-C695-45FC-844B-8BF4171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68F-56C9-4BEF-9301-0F4C1DF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C3015-BD3D-471F-B326-5F6DBC5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3BF1C-7E29-4DA4-8E97-7EED24DA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50D52-1083-4701-A3AB-911A1FF1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FA313-F2F2-4D5C-B576-B0CDA558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BFD27-EB66-4C7E-B366-B0297050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004B3-BB8F-469F-8D34-D74D8C40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E7E0E-5154-44BB-9F06-460B811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2AFF5-0A29-48A9-832C-0A5933A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26AFA-F716-4D61-BCF6-00C5E87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E7BE5-FECE-4F44-9FA7-555E44C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546-D77E-48BD-8478-A8FD6C2A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0209-FCDA-406B-8432-A72A1A8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8A1F5-8624-421A-A43E-8C05931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40085-A962-4A88-8C7A-207957E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63056-17AA-48AF-A986-69968F2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90EA1-F684-455A-A53B-B969F7E0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5A0B3-BA2D-4C21-9089-CBE505E4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97873-EF1D-47C3-ACBE-1EBCECB6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79560-45D4-4BC0-9B2F-C2C7E0D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C8819-E3A7-46EE-AC4E-3B93D3A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54CDD-7115-4575-8DE9-43ED163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7B172-186B-4CF7-8B95-301950E3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96C5-59C5-4AA5-A251-830B091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1DA58-D885-4CA1-B7AD-9205034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86982-5DE2-4848-906A-0DBC6BC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7A39C-0DCE-40F0-A9EF-F46835E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EC51D-9CA8-4F36-8CBA-2ADCCB4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17A7A-DB1C-42E7-96E1-E32598F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B51C0-6592-4638-818F-74A7410F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937B47-0DAD-4634-8B85-11108AA5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E174F-FE17-4E7C-A2C6-AC008CC5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B34FE-3FBC-4717-9099-62C9BD3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5B56E-D0A2-422D-A181-413FF66C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8E8-67E5-4E12-8178-07EC8F9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E423F-C532-4094-A03E-46BFF3E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102A9-802C-40AE-922A-327D059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F6BF6-5516-4149-A81A-185E857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F98AF-C57B-4845-9D25-8D315BD7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134B2-5331-4CDB-9F21-7D594FA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53889-FC6B-4964-A5D0-06E74BC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58F7E-46BD-4867-8A36-764E4B6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71797-5FDF-4FF6-B5C4-8004C08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20D78-D174-4A6F-8CF8-35BE0A95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D6D7D9-5A30-4CD0-A466-F331111B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4F9-F0C7-4A2B-B963-475B6BA5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874DB-24B4-4A0C-B211-843888A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755A1-1AF8-4AE1-B61F-C6550C5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4EA26-1BD6-4E5A-AD84-01C80C6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D13F6-033B-4C97-BF1B-DAEB1D1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B5EC9-6A03-43CF-AED2-A63EF35F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3E0AB-804F-44D7-BC3E-9C54EB1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6FE17-C2D3-4D95-B4E4-CCA1BE8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83CE6-6DFF-419B-A51B-3E88E99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DD14B0-A5C7-4A31-B862-F39EB56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608A8-8C28-418E-894B-457070A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E37B-0BFC-4EC9-B0C1-A397508B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D0312-F83E-43FA-8F5F-DCE35EC8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FAD36-7245-4485-8689-FEB9AFEF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BC9C9-11F1-4353-8690-57B016F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4815A-3955-42E8-8F8C-97F7BBB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2C1C5-BE91-46D1-B90D-4EDA4DBB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B90FD-A7E7-4B49-9058-CECF053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6E0CA-5A04-46A6-8C7C-CBE5701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6AA88-A8ED-4D0D-914D-66C3A4A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1D4B8-EABA-40B6-9184-FA8B5B3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83784-58B8-4776-AD97-216558A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9E0E-0C92-4375-9B30-E7B9F76D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CEFE9-250E-49DC-9E32-23D62E1E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8B8EA-5DAB-4E9D-91B7-12D0ED90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79B93-4716-408A-842E-31472C42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6B364-B8C6-4796-96FB-71963CB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64697-B183-49A3-A835-6CAC743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1DC96-C5FE-4542-8AFE-D21A2B0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C3E281-6F63-4B26-ADA1-D0517E5F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E4200-858C-4F2D-BBF9-BBEE7D2D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6CCDD-A6E7-4434-B6A0-16246EC5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A98B3C-C4D5-48BB-B34E-9DFC5B1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9324-CE1E-4D84-AF37-EA71B42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567C6-379F-4938-9F59-05E6A69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167DDC-BCB6-4B6F-B752-8B1DB12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EBCAB5-5B10-41AC-9BF0-826F36A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66CC88-A383-4000-BBAE-4E88B2C9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13851-58C6-4BC2-A5C4-30623254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065AD8-E9FB-4F8D-8353-025C320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D64EB3-DE27-4829-B815-8F5C8B70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62FAD-266F-47D5-8A14-B20731DC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086EA8-E5C2-4F20-9B43-79C8C9E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0DB28-CB32-4AC0-9C13-D4D6FBDD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843C-ED33-4FF6-B7E6-DFA0834E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DC7B23-7950-4FF7-856B-5DF0EC2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192A7D-E624-425E-BD41-94AB5F7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9B44FA-E17C-49EC-A1AA-4D5C8C0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5C6CCB-2063-4C75-8123-27C93DB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06F42-E5B9-4035-A985-F70BAFF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68F52F-733C-4B94-AE48-CB0944DC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3706DC-D20C-47F2-94AB-4B66F5C4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BB4D5E-5C01-4BBF-969B-7ACDC70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65405-275E-4450-BC6B-DE89DBE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92275-1F67-412C-8E06-CC79B26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1AC6-5A34-4D5F-924D-74D6701B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026F39-A541-4223-ABC1-F829CB6B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7A0F70-772E-4872-8DEC-BED68EC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B2BABD-B07F-4A99-829C-FECC90E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F51AD-2066-4E7D-ABF3-3D52C93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FD578-FDC4-478C-AA5E-A33D795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2FED71-FCD9-4B39-9801-C2218F4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540D08-A71C-4FFE-95E2-E273BC1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8738B-430C-42D9-91D1-E3941FA2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B8897-30F6-41C5-895E-725A63EF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C5C84-52F6-41F2-B6A3-2578C5AF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602E-9AC1-4496-BFCE-6163B209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6A894-BFE9-4A69-B951-854E207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699A8D-1C19-47AC-A362-87DA859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D829AB-9E5B-44EA-9C7D-31F1DA7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7305AC-D767-4B1F-BE3A-A1EC042A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AF4408-390D-49C9-A420-7A80DC3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440C9-830E-4E0D-923F-AB63687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DD1ACA-B679-4AC0-9039-054164E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F1B790-5EE2-4E4F-A6B4-54CF34B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7C83B-7226-4815-97A3-26CC3E0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0B97E-FB6A-40E8-8EBB-F1E22ADB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4BE-B5C6-47D5-9D5C-3DE99C6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1103-8021-4A81-9B9F-E9EEA1A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95C11-2D0C-485A-B11D-ADD48235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3CF444-C6C7-476D-BDC3-C656D13D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E2139D-EA1A-4734-84AF-683E72B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47DFF-3286-4A0A-9A5F-BC15FC1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267BE7-B6D2-4826-9174-436401C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402B6B-4D40-44B6-8B9B-36A0C64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ED06B8-8BAA-40A8-B038-81BFFD15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CE9E15-1FFB-45A8-BD8D-F47BEA2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D09AA9-5D3E-437B-8392-4ADCBA1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C30FF0-CADB-4A10-9532-A62D9A0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A8FC-69F0-4F5B-9975-C775EEF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A3B452-715C-4458-9F9B-3600A41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87B85D-DA4C-4D63-97AB-27E49EB8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F16C90-0F68-494B-A443-FDCF885E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9AE60-F199-4A7B-8394-389F9293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BB54F5-61F0-4A95-8082-F49C087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0ACB23-6248-4EB4-B6DB-EEFCF4E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8326A6-9D1C-47E5-BF48-FDFA8E1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814FF7-B7D3-49CC-96DD-6F59CC14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230300-9BB7-4959-AB02-9E031E2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B1C6F6-C43B-4A4F-B1F1-AA5C256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62EB-B31B-4035-B678-53564F7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4D6B3E-3622-49F4-A4CF-D7D065A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B65819-BCD8-479B-8107-6EAF2634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EECC77-9731-4852-BD96-BA864A1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25FD4C-4EA9-4667-9465-B6FC852D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EF69D3-6744-42EE-BF4D-48DC0069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52A7A8-C48F-4141-B66C-2183BC36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AD2F74-CF21-4192-BBB1-360BA83B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A51FD7-CD7F-4FC8-B798-11E63E3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67562E-E166-4C6A-823C-B295882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F035DC-D4DB-4EDE-B198-9C08F4CC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4BF3-8080-4298-A9A9-0C38F2E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301269-331E-4170-8EB6-481AA050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DCB16-15D6-49E3-9437-28EB390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1425FE-7459-464C-974C-57F6F4B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831488-D709-47FB-ACE6-8C89E6B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2016EA-1F4E-4589-9EBA-CBBB0494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416B45-C10F-46B9-8B41-8789DB77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4F562E-4FB3-48B8-A25D-DBBDB700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A2F3CB-32E8-4638-9203-ECEA4437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EB3BC5-82DC-4647-99AB-7EE6E8FB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4B49F7-85DF-4E64-905B-A22DA09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E009-5A5E-4B28-A223-F0F661A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16012B-5C89-4178-A6A9-3B49E5F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D99EC9-7F4F-4948-A772-443C43DC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A14065-1644-47DB-9C70-2A27E22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B1EDCD-6069-4DFC-9EAE-39FE8E4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B398D3-510A-4DDD-ADFC-4A4AD6A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D89D25-0C9C-4312-A678-A92E15E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5066FB-97FC-42D6-A8B2-38B9B60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23A5BE-8121-4BEC-B348-0A492E18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74D641-11F7-470B-8E09-395D2335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1A5B3-BED7-45C2-8099-494DBDE5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7305-C80E-4EED-80D4-B39B6818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474669-355A-4264-A58D-7EB28E2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02DBA-708A-4B48-AEFA-AF5C9D9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BC09F6-C16C-4425-AC54-3064ED4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31886F-FE8F-4EF7-B2C3-9204754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C15714-E416-4AA0-B7CF-E57155B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501B8D-29DB-480E-A357-1AB31E2D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EF5DB8-955E-4955-A592-558078D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7B49A7-35E7-412D-9655-0478426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B939FA-C59B-4A13-870E-7A4808F4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FFA5FB-EB95-43E2-B91B-7EF217DF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1D4E-31D5-4121-BD48-42A2A4E7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F6C6C1-28B0-4DE7-9FC7-CDFAD0F7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8C8299-DDBE-417B-8F5C-486EFC03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0C59AA-58D1-45C9-89FC-5F7F1997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4D6428-2C46-4B54-8B9A-C56BE6D1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D465D6-7C8A-4692-855E-F3E5CCDC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9E9F33-C6C3-4CE5-8A16-19FD87C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56EA07-550D-4F23-AC86-E020661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C359C8-C1FA-4F10-A04C-73CBFC9D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68DCB1-5229-44E7-A041-31A096D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6E5413-5438-467B-A3AA-FF9B76B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1274-4A12-4765-85F5-AE1F04C1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AB7B9-9116-49D8-8A46-2CC28366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52B1E7-5C69-4863-A864-6276ECB6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6EF8CA-4C68-4115-A202-F6027CB6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04DF-C971-4C2F-9792-8BF5ADDB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290F-EE54-4221-AE31-953D90EF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CD6-D8E0-4EBD-95D9-2FFCA57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B483-12E1-459D-9E56-F901B739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1687-23E8-457D-BE31-D1315ED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F55C-D22C-4401-8FF7-C51EBCE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C3A1-E7D1-40D4-A9C2-76106EB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0B033-F38E-4260-B38E-164DDF5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C4C34-D42A-4862-8CD1-7C30409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6A0E-6F15-4523-BF9A-984B9C6F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527D-8368-4876-8185-C9DBECD3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CFF8-4C7C-4982-A3FE-AE782977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270E-DB25-4054-93FC-29624DD6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5D5-0B39-470A-8344-A869F044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9C67-51EB-44E6-A4FD-12E0C67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1B4C-DA30-4B88-B2A5-F1F7BC42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45D1-C761-4A0C-8572-A5CFD6B3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CC11-7EA4-4668-9D66-65DB662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2720-A96E-42F8-B491-FA15D431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5D20-A3B6-4F62-B7E8-C54DF5B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16AE-6D88-4578-BE60-55DB243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65F3-39C2-4CB3-A56F-5467105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F4BD-B591-48DE-B2C7-7F54B72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5631-26DE-4EA5-A19E-7CC1C5DD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A29-1B3B-41B2-B1A8-F29662B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C837-042F-4575-BDB0-B0DED175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F97E-9CA6-4842-BC9A-FB5559EC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FCE5-FB8F-45FC-B573-40442F6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73E6-D0B9-458C-B461-E42CC53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04E2F-1CFD-489E-9449-F78A1B2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B9323-D5A2-47A8-869A-9F20B6E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2FADC-816F-40E3-9580-486854C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D6D2-B184-4E43-A361-8CF7E9D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33A3-9952-4ECD-A5D9-E613EAA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E39F-ED8D-42DC-8430-4174CAF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4B7-E5B7-4F6A-A492-D72E269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EB68-34A6-4DB3-8E77-C7C8229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7852A-7688-4150-B0EB-5854C1C1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F0CD-9B78-4C22-875C-60332BBD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5B4D-C0C1-4835-9B7F-F27A9451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74F1-DD1D-41C6-96B1-BD05883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3F9FF-49BC-4892-99F7-653809B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B066-305C-4F77-A42A-3D44B2A7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A99B-7393-44CB-8DD3-57E5C94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A694-65B5-4BF3-BF9F-71DC94AC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B0E3-0C55-4B11-86E5-8B9F739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842-DB0A-447F-9DAD-E08A59C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7FC0-F9D9-4CD8-A30C-FC19F29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D52DA-6082-4CEB-9EFE-A410553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0251-0DC2-4FF3-AC87-0EA5ECE3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4FB8-E566-47CC-B6BF-EECE38B0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EAB1-5061-4E4E-ACA0-C415943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47496-DDDB-4FC1-8A5E-59848BE4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41AA4-C8D7-42B2-A41D-1A29009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3633-D358-4F38-AB5B-AA5694B6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1BC6-74C0-4619-A538-52B794A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819E5-7EC8-4A07-9907-BFF14DC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BA3-EDCB-40C2-AA9C-B5246DDF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CB93-90BF-4FE7-B982-89931E0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DAF5E-3F9C-4166-AF19-EE45F82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A6E2-1792-497B-BF70-2D5A6BDB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5AFA-65B9-49BD-B496-FE69FA4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0DF9-D4B6-415D-939F-4AE3134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BC1B7-ACC8-4AA9-AD35-0D13A509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B94A-90E2-4903-BC7F-89660EA4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0E95D-55BC-45FB-A859-F42FCE8C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155C6-0D2B-4314-A122-6A73ED7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365A1-C160-429F-B6C4-B6FBEE81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728-0ECB-404C-85D5-AAB514295C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D4C-711E-4C6C-A93C-0915757B47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198E-C018-4C93-9448-F4E6D7DDC7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A49-B388-4659-B3D2-69DBD0C54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84B-76E0-4DC6-AB58-FA1BBD7503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054-D140-48C6-BA68-575D7458FE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EA1D-E965-4079-8CFD-6E2B88EC1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E12B-0470-4194-99FA-C97151F36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C41-C59F-4E80-A7A5-F43759514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0392-2EA1-45BC-AD05-95726C261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056-16BD-4A42-AD6E-4EF75EDD8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D0B-6FAD-49BF-858B-9F122E114A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740-F011-46B7-83AA-B11A6A0DF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534-BA5F-4134-AFF8-DDC8E12C0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044-4C30-487E-A331-F9438C1C8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C0D-B344-4877-86F0-49531642C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BBA-3140-4F6B-9081-02D11C29B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9FC-8AB5-40CF-9C01-D0AF463D3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1C0E-5C35-4622-A473-A04DC9961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DBB0-9881-43F3-86BF-D7BA35B72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407-EBC2-4BE1-BF61-DDBDB16F6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5AE-52AA-4694-BE80-92AC32364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A62-F708-4383-9713-E84BF907A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BC2-1BB1-4D54-8A0A-C6DBACF79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A03-D856-48CE-B646-0CF86A8C9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DA1-258C-4507-B034-479110EED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EED-7AE5-48CB-8CCB-4A0C99A3D7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516-4C5D-4EC2-9DF2-64E2A2967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48E-E065-4981-BA18-4533B82F84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BB52-B07D-4C8D-87EA-DA922DB9D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4B63-2630-4C43-9F4A-85285DA4E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456-C308-4FB1-AC5E-B7C92C680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B6C-244D-47D7-AB26-FA48D90F0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091A-6226-47F7-BFFE-646E8B2EA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0874-E3CC-4844-B3CE-0E697B050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8392-1EDE-45F5-A6B8-53DFB5CAF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55A-9F12-41FF-89AA-F41445600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0F8-3052-4D4E-887E-D227CB91E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6B9-A117-4B86-9887-37D9C643E9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0F9-77E0-4E0A-8328-11483AA54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B2F-4DE0-4C86-9B3A-6A77DC39C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51B-6BBE-42DC-84FF-EFF41CA1A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795D-8ABC-4712-8ED1-3DB4C95ACE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105-7781-484F-95C4-236BB2EA5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9E0-A1E2-40E5-A5EB-7C3D5A1286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163D-44CC-4222-9C90-BE6161B956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5AA-2714-4D3B-A28E-2F18E8C15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F8B-9762-4AF7-B2F8-9BF7CC3590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1E1-1056-4A94-B7E1-83FD42B008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ADD-D4B0-4EAE-9F57-846C6B1EBF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671920" y="2209680"/>
            <a:ext cx="3647880" cy="7430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467000" y="3052800"/>
            <a:ext cx="6267240" cy="7524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2127240" y="3943440"/>
            <a:ext cx="48481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6737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29440" cy="255276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116738" descr=""/>
          <p:cNvPicPr/>
          <p:nvPr/>
        </p:nvPicPr>
        <p:blipFill>
          <a:blip r:embed="rId2"/>
          <a:stretch/>
        </p:blipFill>
        <p:spPr>
          <a:xfrm>
            <a:off x="430200" y="3510000"/>
            <a:ext cx="8058240" cy="27241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6739"/>
          <p:cNvSpPr/>
          <p:nvPr/>
        </p:nvSpPr>
        <p:spPr>
          <a:xfrm>
            <a:off x="7786800" y="1933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6740"/>
          <p:cNvSpPr/>
          <p:nvPr/>
        </p:nvSpPr>
        <p:spPr>
          <a:xfrm>
            <a:off x="7596360" y="5157720"/>
            <a:ext cx="8092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6741"/>
          <p:cNvSpPr/>
          <p:nvPr/>
        </p:nvSpPr>
        <p:spPr>
          <a:xfrm>
            <a:off x="1476360" y="5734080"/>
            <a:ext cx="1657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5715" descr=""/>
          <p:cNvPicPr/>
          <p:nvPr/>
        </p:nvPicPr>
        <p:blipFill>
          <a:blip r:embed="rId1"/>
          <a:stretch/>
        </p:blipFill>
        <p:spPr>
          <a:xfrm>
            <a:off x="814320" y="1509840"/>
            <a:ext cx="7515360" cy="383832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5716"/>
          <p:cNvSpPr/>
          <p:nvPr/>
        </p:nvSpPr>
        <p:spPr>
          <a:xfrm>
            <a:off x="5348160" y="1495440"/>
            <a:ext cx="2914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5717"/>
          <p:cNvSpPr/>
          <p:nvPr/>
        </p:nvSpPr>
        <p:spPr>
          <a:xfrm>
            <a:off x="1332000" y="2060640"/>
            <a:ext cx="13716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5718"/>
          <p:cNvSpPr/>
          <p:nvPr/>
        </p:nvSpPr>
        <p:spPr>
          <a:xfrm>
            <a:off x="1609560" y="3160800"/>
            <a:ext cx="67820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5719"/>
          <p:cNvSpPr/>
          <p:nvPr/>
        </p:nvSpPr>
        <p:spPr>
          <a:xfrm>
            <a:off x="1403280" y="3716280"/>
            <a:ext cx="2428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5720"/>
          <p:cNvSpPr/>
          <p:nvPr/>
        </p:nvSpPr>
        <p:spPr>
          <a:xfrm>
            <a:off x="5651640" y="4292640"/>
            <a:ext cx="26668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21"/>
          <p:cNvSpPr/>
          <p:nvPr/>
        </p:nvSpPr>
        <p:spPr>
          <a:xfrm>
            <a:off x="1403280" y="4869000"/>
            <a:ext cx="16574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4689" descr=""/>
          <p:cNvPicPr/>
          <p:nvPr/>
        </p:nvPicPr>
        <p:blipFill>
          <a:blip r:embed="rId1"/>
          <a:stretch/>
        </p:blipFill>
        <p:spPr>
          <a:xfrm>
            <a:off x="595440" y="1681200"/>
            <a:ext cx="7953120" cy="34956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4690"/>
          <p:cNvSpPr/>
          <p:nvPr/>
        </p:nvSpPr>
        <p:spPr>
          <a:xfrm>
            <a:off x="4805280" y="4695840"/>
            <a:ext cx="8571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3665" descr=""/>
          <p:cNvPicPr/>
          <p:nvPr/>
        </p:nvPicPr>
        <p:blipFill>
          <a:blip r:embed="rId1"/>
          <a:stretch/>
        </p:blipFill>
        <p:spPr>
          <a:xfrm>
            <a:off x="814320" y="1481040"/>
            <a:ext cx="7515360" cy="38959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3666"/>
          <p:cNvSpPr/>
          <p:nvPr/>
        </p:nvSpPr>
        <p:spPr>
          <a:xfrm>
            <a:off x="5100480" y="1447920"/>
            <a:ext cx="1162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3667"/>
          <p:cNvSpPr/>
          <p:nvPr/>
        </p:nvSpPr>
        <p:spPr>
          <a:xfrm>
            <a:off x="2041560" y="2017800"/>
            <a:ext cx="1162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3668"/>
          <p:cNvSpPr/>
          <p:nvPr/>
        </p:nvSpPr>
        <p:spPr>
          <a:xfrm>
            <a:off x="1692360" y="2584440"/>
            <a:ext cx="1942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9"/>
          <p:cNvSpPr/>
          <p:nvPr/>
        </p:nvSpPr>
        <p:spPr>
          <a:xfrm>
            <a:off x="6588000" y="3141720"/>
            <a:ext cx="1162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70"/>
          <p:cNvSpPr/>
          <p:nvPr/>
        </p:nvSpPr>
        <p:spPr>
          <a:xfrm>
            <a:off x="6588000" y="3716280"/>
            <a:ext cx="1162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71"/>
          <p:cNvSpPr/>
          <p:nvPr/>
        </p:nvSpPr>
        <p:spPr>
          <a:xfrm>
            <a:off x="7380360" y="4268880"/>
            <a:ext cx="1162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72"/>
          <p:cNvSpPr/>
          <p:nvPr/>
        </p:nvSpPr>
        <p:spPr>
          <a:xfrm>
            <a:off x="1403280" y="4840200"/>
            <a:ext cx="18288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2641" descr=""/>
          <p:cNvPicPr/>
          <p:nvPr/>
        </p:nvPicPr>
        <p:blipFill>
          <a:blip r:embed="rId1"/>
          <a:stretch/>
        </p:blipFill>
        <p:spPr>
          <a:xfrm>
            <a:off x="573120" y="789120"/>
            <a:ext cx="7962840" cy="57150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2642"/>
          <p:cNvSpPr/>
          <p:nvPr/>
        </p:nvSpPr>
        <p:spPr>
          <a:xfrm>
            <a:off x="5043600" y="1895400"/>
            <a:ext cx="904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2643"/>
          <p:cNvSpPr/>
          <p:nvPr/>
        </p:nvSpPr>
        <p:spPr>
          <a:xfrm>
            <a:off x="2340000" y="2473200"/>
            <a:ext cx="14572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1617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382160" cy="394308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1618"/>
          <p:cNvSpPr/>
          <p:nvPr/>
        </p:nvSpPr>
        <p:spPr>
          <a:xfrm>
            <a:off x="7015320" y="2523960"/>
            <a:ext cx="12096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1619"/>
          <p:cNvSpPr/>
          <p:nvPr/>
        </p:nvSpPr>
        <p:spPr>
          <a:xfrm>
            <a:off x="1332000" y="3084480"/>
            <a:ext cx="21621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1620"/>
          <p:cNvSpPr/>
          <p:nvPr/>
        </p:nvSpPr>
        <p:spPr>
          <a:xfrm>
            <a:off x="3059280" y="4365720"/>
            <a:ext cx="1390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0593" descr=""/>
          <p:cNvPicPr/>
          <p:nvPr/>
        </p:nvPicPr>
        <p:blipFill>
          <a:blip r:embed="rId1"/>
          <a:stretch/>
        </p:blipFill>
        <p:spPr>
          <a:xfrm>
            <a:off x="576360" y="1590840"/>
            <a:ext cx="79912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09569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382160" cy="2790720"/>
          </a:xfrm>
          <a:prstGeom prst="rect">
            <a:avLst/>
          </a:prstGeom>
          <a:ln w="0">
            <a:noFill/>
          </a:ln>
        </p:spPr>
      </p:pic>
      <p:pic>
        <p:nvPicPr>
          <p:cNvPr id="1484" name="图片 109570" descr=""/>
          <p:cNvPicPr/>
          <p:nvPr/>
        </p:nvPicPr>
        <p:blipFill>
          <a:blip r:embed="rId2"/>
          <a:stretch/>
        </p:blipFill>
        <p:spPr>
          <a:xfrm>
            <a:off x="1293840" y="4282920"/>
            <a:ext cx="1933560" cy="4384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09571"/>
          <p:cNvSpPr/>
          <p:nvPr/>
        </p:nvSpPr>
        <p:spPr>
          <a:xfrm>
            <a:off x="5919840" y="1400040"/>
            <a:ext cx="2228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9572"/>
          <p:cNvSpPr/>
          <p:nvPr/>
        </p:nvSpPr>
        <p:spPr>
          <a:xfrm>
            <a:off x="1332000" y="1951200"/>
            <a:ext cx="4305240" cy="10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9573"/>
          <p:cNvSpPr/>
          <p:nvPr/>
        </p:nvSpPr>
        <p:spPr>
          <a:xfrm>
            <a:off x="2556000" y="3716280"/>
            <a:ext cx="56480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09574"/>
          <p:cNvSpPr/>
          <p:nvPr/>
        </p:nvSpPr>
        <p:spPr>
          <a:xfrm>
            <a:off x="1206360" y="4264200"/>
            <a:ext cx="185760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08545" descr=""/>
          <p:cNvPicPr/>
          <p:nvPr/>
        </p:nvPicPr>
        <p:blipFill>
          <a:blip r:embed="rId1"/>
          <a:stretch/>
        </p:blipFill>
        <p:spPr>
          <a:xfrm>
            <a:off x="528480" y="1757520"/>
            <a:ext cx="8087040" cy="3342960"/>
          </a:xfrm>
          <a:prstGeom prst="rect">
            <a:avLst/>
          </a:prstGeom>
          <a:ln w="0">
            <a:noFill/>
          </a:ln>
        </p:spPr>
      </p:pic>
      <p:sp>
        <p:nvSpPr>
          <p:cNvPr id="1490" name="矩形 108547"/>
          <p:cNvSpPr/>
          <p:nvPr/>
        </p:nvSpPr>
        <p:spPr>
          <a:xfrm>
            <a:off x="2328840" y="3495600"/>
            <a:ext cx="27241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8548"/>
          <p:cNvSpPr/>
          <p:nvPr/>
        </p:nvSpPr>
        <p:spPr>
          <a:xfrm>
            <a:off x="1332000" y="4653000"/>
            <a:ext cx="27241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0752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39160" cy="547704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07522"/>
          <p:cNvSpPr/>
          <p:nvPr/>
        </p:nvSpPr>
        <p:spPr>
          <a:xfrm>
            <a:off x="2357280" y="4705200"/>
            <a:ext cx="31528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7523"/>
          <p:cNvSpPr/>
          <p:nvPr/>
        </p:nvSpPr>
        <p:spPr>
          <a:xfrm>
            <a:off x="1778040" y="5259240"/>
            <a:ext cx="31528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9800" cy="54482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786800" y="1933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7740720" y="3645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06498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63080" cy="556272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06499"/>
          <p:cNvSpPr/>
          <p:nvPr/>
        </p:nvSpPr>
        <p:spPr>
          <a:xfrm>
            <a:off x="4805280" y="771480"/>
            <a:ext cx="29433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6500"/>
          <p:cNvSpPr/>
          <p:nvPr/>
        </p:nvSpPr>
        <p:spPr>
          <a:xfrm>
            <a:off x="3059280" y="1916280"/>
            <a:ext cx="363852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6501"/>
          <p:cNvSpPr/>
          <p:nvPr/>
        </p:nvSpPr>
        <p:spPr>
          <a:xfrm>
            <a:off x="2041560" y="3025800"/>
            <a:ext cx="620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6502"/>
          <p:cNvSpPr/>
          <p:nvPr/>
        </p:nvSpPr>
        <p:spPr>
          <a:xfrm>
            <a:off x="1476360" y="3597120"/>
            <a:ext cx="620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6503"/>
          <p:cNvSpPr/>
          <p:nvPr/>
        </p:nvSpPr>
        <p:spPr>
          <a:xfrm>
            <a:off x="3654360" y="4724280"/>
            <a:ext cx="4629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6504"/>
          <p:cNvSpPr/>
          <p:nvPr/>
        </p:nvSpPr>
        <p:spPr>
          <a:xfrm>
            <a:off x="-1241280" y="5300640"/>
            <a:ext cx="9629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6505"/>
          <p:cNvSpPr/>
          <p:nvPr/>
        </p:nvSpPr>
        <p:spPr>
          <a:xfrm>
            <a:off x="1403280" y="5853240"/>
            <a:ext cx="3648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25956" descr=""/>
          <p:cNvPicPr/>
          <p:nvPr/>
        </p:nvPicPr>
        <p:blipFill>
          <a:blip r:embed="rId1"/>
          <a:stretch/>
        </p:blipFill>
        <p:spPr>
          <a:xfrm>
            <a:off x="557280" y="1547640"/>
            <a:ext cx="80294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26977" descr=""/>
          <p:cNvPicPr/>
          <p:nvPr/>
        </p:nvPicPr>
        <p:blipFill>
          <a:blip r:embed="rId1"/>
          <a:stretch/>
        </p:blipFill>
        <p:spPr>
          <a:xfrm>
            <a:off x="866880" y="1733400"/>
            <a:ext cx="7410240" cy="339120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26979"/>
          <p:cNvSpPr/>
          <p:nvPr/>
        </p:nvSpPr>
        <p:spPr>
          <a:xfrm>
            <a:off x="785880" y="1733400"/>
            <a:ext cx="6153120" cy="11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6980"/>
          <p:cNvSpPr/>
          <p:nvPr/>
        </p:nvSpPr>
        <p:spPr>
          <a:xfrm>
            <a:off x="957240" y="3162240"/>
            <a:ext cx="736272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6981"/>
          <p:cNvSpPr/>
          <p:nvPr/>
        </p:nvSpPr>
        <p:spPr>
          <a:xfrm>
            <a:off x="833400" y="4086360"/>
            <a:ext cx="74390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26982"/>
          <p:cNvSpPr/>
          <p:nvPr/>
        </p:nvSpPr>
        <p:spPr>
          <a:xfrm>
            <a:off x="826920" y="4653000"/>
            <a:ext cx="46580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566640" y="2629080"/>
            <a:ext cx="8010720" cy="160020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6"/>
          <p:cNvSpPr/>
          <p:nvPr/>
        </p:nvSpPr>
        <p:spPr>
          <a:xfrm>
            <a:off x="7796160" y="267660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288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7960" cy="54766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2882"/>
          <p:cNvSpPr/>
          <p:nvPr/>
        </p:nvSpPr>
        <p:spPr>
          <a:xfrm>
            <a:off x="7796160" y="144792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1857" descr=""/>
          <p:cNvPicPr/>
          <p:nvPr/>
        </p:nvPicPr>
        <p:blipFill>
          <a:blip r:embed="rId1"/>
          <a:stretch/>
        </p:blipFill>
        <p:spPr>
          <a:xfrm>
            <a:off x="538200" y="1824120"/>
            <a:ext cx="8067600" cy="320976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1858"/>
          <p:cNvSpPr/>
          <p:nvPr/>
        </p:nvSpPr>
        <p:spPr>
          <a:xfrm>
            <a:off x="7777080" y="241920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566640" y="1700280"/>
            <a:ext cx="8010720" cy="345744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796160" y="2857680"/>
            <a:ext cx="4478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9809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029440" cy="93348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119810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10760" cy="264780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9811"/>
          <p:cNvSpPr/>
          <p:nvPr/>
        </p:nvSpPr>
        <p:spPr>
          <a:xfrm>
            <a:off x="7643880" y="109548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18785" descr=""/>
          <p:cNvPicPr/>
          <p:nvPr/>
        </p:nvPicPr>
        <p:blipFill>
          <a:blip r:embed="rId1"/>
          <a:stretch/>
        </p:blipFill>
        <p:spPr>
          <a:xfrm>
            <a:off x="552600" y="1538280"/>
            <a:ext cx="8038800" cy="37814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18786"/>
          <p:cNvSpPr/>
          <p:nvPr/>
        </p:nvSpPr>
        <p:spPr>
          <a:xfrm>
            <a:off x="7796160" y="213372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7761" descr=""/>
          <p:cNvPicPr/>
          <p:nvPr/>
        </p:nvPicPr>
        <p:blipFill>
          <a:blip r:embed="rId1"/>
          <a:stretch/>
        </p:blipFill>
        <p:spPr>
          <a:xfrm>
            <a:off x="585720" y="871560"/>
            <a:ext cx="7972560" cy="51148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17762"/>
          <p:cNvSpPr/>
          <p:nvPr/>
        </p:nvSpPr>
        <p:spPr>
          <a:xfrm>
            <a:off x="7815240" y="145728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0:5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